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744B-0F8B-40BC-B080-8383A0712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9305-490D-4859-AA4E-0CB5ED5CF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1EBF-B03F-47D7-9DDE-657F83EE3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9DC6-1DBA-479E-8869-A1275BA0A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98B0-FBFC-4BB9-9CA0-687D3B89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C68A-2F82-4DB7-BD68-649C1FE19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EF7D-380F-4A21-AAEB-7C73C260B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CC5F-7DA2-47E2-8190-D37A567D1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8B84-D8A3-4A37-A5A6-7E42DDD21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B9D1-7C16-4A72-BF6E-B2637A29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535D-8989-4D62-AE11-23C6B4F4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1BC5-3CC3-46BE-8071-E9E58A0C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8ECCB-4441-4363-AB69-3706F2738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e Graph on Senses and Perce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Object 5"/>
          <p:cNvGraphicFramePr/>
          <p:nvPr/>
        </p:nvGraphicFramePr>
        <p:xfrm>
          <a:off x="0" y="1959120"/>
          <a:ext cx="8721720" cy="454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59120"/>
                    <a:ext cx="8721720" cy="45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Text Box 7"/>
          <p:cNvSpPr/>
          <p:nvPr/>
        </p:nvSpPr>
        <p:spPr>
          <a:xfrm>
            <a:off x="3295440" y="4749840"/>
            <a:ext cx="8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83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2161440" y="2895480"/>
            <a:ext cx="9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11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9"/>
          <p:cNvSpPr/>
          <p:nvPr/>
        </p:nvSpPr>
        <p:spPr>
          <a:xfrm flipV="1">
            <a:off x="3124080" y="1752480"/>
            <a:ext cx="0" cy="533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0"/>
          <p:cNvSpPr/>
          <p:nvPr/>
        </p:nvSpPr>
        <p:spPr>
          <a:xfrm flipH="1">
            <a:off x="2743200" y="175248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777680" y="1523880"/>
            <a:ext cx="97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3.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2"/>
          <p:cNvSpPr/>
          <p:nvPr/>
        </p:nvSpPr>
        <p:spPr>
          <a:xfrm flipV="1">
            <a:off x="3505320" y="1600200"/>
            <a:ext cx="0" cy="533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3"/>
          <p:cNvSpPr/>
          <p:nvPr/>
        </p:nvSpPr>
        <p:spPr>
          <a:xfrm>
            <a:off x="3505320" y="160020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3819240" y="1276200"/>
            <a:ext cx="97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1.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3733920" y="2514600"/>
            <a:ext cx="5331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4290480" y="2286000"/>
            <a:ext cx="67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500"/>
                            </p:stCondLst>
                            <p:childTnLst>
                              <p:par>
                                <p:cTn id="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0"/>
                            </p:stCondLst>
                            <p:childTnLst>
                              <p:par>
                                <p:cTn id="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5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6000"/>
                            </p:stCondLst>
                            <p:childTnLst>
                              <p:par>
                                <p:cTn id="4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7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7500"/>
                            </p:stCondLst>
                            <p:childTnLst>
                              <p:par>
                                <p:cTn id="5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ention Rate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4"/>
          <p:cNvGraphicFramePr/>
          <p:nvPr/>
        </p:nvGraphicFramePr>
        <p:xfrm>
          <a:off x="609480" y="1219320"/>
          <a:ext cx="8008920" cy="44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19320"/>
                    <a:ext cx="8008920" cy="44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Text Box 6"/>
          <p:cNvSpPr/>
          <p:nvPr/>
        </p:nvSpPr>
        <p:spPr>
          <a:xfrm rot="19003200">
            <a:off x="465120" y="551952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 rot="19193400">
            <a:off x="1650960" y="548604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 rot="18897600">
            <a:off x="2918160" y="5486040"/>
            <a:ext cx="11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e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 rot="18997200">
            <a:off x="3891600" y="5595120"/>
            <a:ext cx="171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earing 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e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 rot="18685800">
            <a:off x="5424120" y="5484600"/>
            <a:ext cx="119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 rot="18636000">
            <a:off x="6668640" y="5322600"/>
            <a:ext cx="156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earing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ying 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07:37:36Z</dcterms:created>
  <dc:creator>pc</dc:creator>
  <dc:description/>
  <dc:language>en-US</dc:language>
  <cp:lastModifiedBy>msu-iit</cp:lastModifiedBy>
  <dcterms:modified xsi:type="dcterms:W3CDTF">2011-06-28T03:04:01Z</dcterms:modified>
  <cp:revision>83</cp:revision>
  <dc:subject/>
  <dc:title>Barriers to Communication</dc:title>
</cp:coreProperties>
</file>